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617E3-70B6-48B6-83CA-E841571A3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933CA-DE6C-4525-905A-959E5C80F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5AFB2-EE55-4E8A-A0AB-00585530D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2FF54-565D-47A7-86D7-119829E3F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19C13-C98B-41B5-8708-5F82C55C4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2B8DB-5866-4CDC-B14A-679B3A4DB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DB0CE-81AC-4D5E-9D4D-E9EE0C9FC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FEAE4-DCC4-4A5F-A923-9CC31391B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9CA39-9BB2-42A0-83B2-03F4D095C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C1EA8-14EF-4BEB-AEDF-3AD3C5ED3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9C2C4-450C-4365-A391-CA411547B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85B52-70B6-45D9-916F-6441B21DC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D9CC7-C7D4-4CCB-BAE6-53994112F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6E935-D9E6-4549-9948-1B0D2E2B1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59AEC-3DC3-4C2E-95A6-0512E10D3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44BBCA-84DC-4548-8D20-82365F6FE6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B91850-A107-4C2F-BC3D-B24AFB69C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99158-DC4B-47C6-A012-640A9EF43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7D154-E9D0-4719-8D12-5C3E41EAA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4788F-DAD0-4D04-B258-F919A428C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7488C-E169-417C-91E6-DF13C00F7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1E4E9-8734-4462-A356-31B1AC821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95F4C-EDAE-4AE7-8077-7076CFDC1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2816B-83B1-4868-A082-2BCC41B21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ECCDD-E5FD-4E53-8577-96CD5B0DE917}"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5F45A-0A04-4FDC-8E10-E60F9FA20407}"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F57E-2F3F-4276-A22B-EF9C7E8FA1D2}" type="datetime">
              <a:rPr b="0" lang="zh-CN" sz="1400" spc="-1" strike="noStrike">
                <a:solidFill>
                  <a:srgbClr val="ffffff"/>
                </a:solidFill>
                <a:latin typeface="Times New Roman"/>
              </a:rPr>
              <a:t>26/7/31</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EBF7-4115-4A35-B4A1-EEC5742FAEE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C2AAA2D0-C0EC-4026-99B9-6524B8ACD2BB}"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BB7FA42-4CCE-48BE-9B31-F594B77A9ADA}"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B4549F7-7F55-4A52-9B2A-692AAC430FB5}"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F23EAE4-3AB5-405F-80BB-B50FD70F1652}"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3FA5FAA-18B9-4A40-9E53-8A1CD7FF9740}"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5068987-BA36-4696-B788-7C2E113F320B}"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758468C-072A-41D0-9101-5504BBB6FE7F}"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5013B39-2FDF-4EBB-9895-3F24C85E6B37}"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CC76737-7A95-44CA-A5A8-18FA2E1B9C54}"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