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7D83C-28A6-4B63-A5BB-8ADC2298C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1AEDF-A21F-48FB-A2EE-B26F4C062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C0CF1-C3DF-44C4-A023-CADFA81A4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374E6-5CE5-483A-A1E6-6E8720B94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580974-3711-4A0F-B606-FB3F704A6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DD2B9-1CE4-46A5-913B-8A3F317F1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342B3-8563-4D25-8DE0-3F53B0446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4EE12-18A3-430E-8689-24AD015AD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575BD-EF05-4A83-8F60-A60276FC5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009B9-2B06-4216-836E-D5034404C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73D69-E9E3-4954-93AF-5C768FD44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01B86-DD63-4842-961A-109CF2387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AE91F-DA31-4673-B6B7-2519CBBB8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6B6FD-E77C-43BB-A9E5-03AA1E74B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25372-C435-4DC7-B16A-922C10DAC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C8974-AFED-4A61-B041-A216876E0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DA846-F187-4279-98F6-24F8C61BF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DFDAC-F33E-47D5-B57E-0CEC7F9CB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C461E-1E88-46C4-ACCE-BAB89C969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98DEE-BEAF-4543-B54C-0C9AA66C6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186FB-FCC3-4F37-B0AF-E71136956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CF7CA-CFE0-4235-8246-9B5AF706A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A06A0-7939-4DA9-A828-7D5A7E24F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349EB-B194-4DA5-8800-BD41F9B7D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E7BE-B795-44DF-A46A-F9CC27F8CCC4}"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CC8F-E78A-46B4-AD5A-26348E3791F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0F0F-CE88-4C02-A814-8F460827C64F}" type="datetime">
              <a:rPr b="0" lang="zh-CN" sz="1400" spc="-1" strike="noStrike">
                <a:solidFill>
                  <a:srgbClr val="ffffff"/>
                </a:solidFill>
                <a:latin typeface="Times New Roman"/>
              </a:rPr>
              <a:t>26/7/29</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4284-0DC4-4422-8883-C0C59C30167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637CE03F-AC0F-4D62-84F6-402DDEB5A06F}"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43E86A5-70D6-482D-81FD-7CCD9B0E4C67}"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B8384F8-BE74-4C5D-A222-2D73C2585E40}"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16763A4-1607-4B02-B9BE-89FB13B595F3}"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F1DDCD5-E2DE-4CFF-8CFB-1DF5F4CCBAB3}"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F8D1F58-D436-44CE-8B2B-82A2F96A5420}"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67D29DC-1D2F-4516-8590-1413B0BB8247}"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C1B28B2-46BB-4E9A-A3DC-F2A5BEBBA7C8}"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07C3CF9-7B1D-4B54-A5D5-267B06EED1AE}"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