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8162AA-15A7-426B-97B9-E9734FA668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F93CB-F356-4C35-B9EA-0BB5DA42B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C4E9C3-084B-46CC-B8B9-F3603AE34E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C3980F-BC36-417A-9D84-2B7816424D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826C56-7BB7-43DA-A70A-7E449035AE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487511-8F37-4B8C-A8C9-44C2E4C5E0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8B7B54-F43C-4C84-9604-1E589939C9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3BF38C-41BF-4670-BED5-E8A7F5781F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8267C6-B717-477C-A0BA-C91CCA9BC0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AF1F65-6405-4AC3-8649-380AD2C0ED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FA9486-AB22-4B64-882B-3FB3FBBFD2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0E54D-1F85-46E6-943B-4DF3BFA43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54F107-3698-42EB-9AFE-70475ACCA6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0D17E6-2F5C-49E3-9AAB-47BE15E9B5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06C686-2EB0-4D38-A325-33A01B4777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62E585-4E75-4A31-A586-F9C661F7D5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A75537-2185-4C99-AEAA-73AED0ACBD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650C9-95D6-4A4B-81A7-D082C8C8F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B07A5-2384-4F5C-B0D6-DE94C1C80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C860B-5176-45FD-9E10-27527F330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1F888-31CE-4375-9A93-93A533018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636F5-60D7-48A6-92B6-B8909FFF5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BC866-11CD-4175-B10D-DEE539562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A83FD-EDCE-4166-84D7-8A1BE4FFE7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539D4-148B-4C0C-8154-924C809423EE}" type="datetime">
              <a:rPr b="0" lang="zh-CN" sz="1400" spc="-1" strike="noStrike">
                <a:solidFill>
                  <a:srgbClr val="ffffff"/>
                </a:solidFill>
                <a:latin typeface="Times New Roman"/>
              </a:rPr>
              <a:t>26/7/31</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36853-5EE8-4F06-984A-1B0CD9E0B15E}"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E9531-A3A1-403E-9859-E5E42323E288}" type="datetime">
              <a:rPr b="0" lang="zh-CN" sz="1400" spc="-1" strike="noStrike">
                <a:solidFill>
                  <a:srgbClr val="ffffff"/>
                </a:solidFill>
                <a:latin typeface="Times New Roman"/>
              </a:rPr>
              <a:t>26/7/31</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6AE47-96AD-44BA-8DC1-060FAB674EA7}"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F10CBB43-BE2A-4B7B-9E9E-F1D203B07324}" type="datetime1">
              <a:rPr lang="en-US"/>
              <a:t>07/31/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41BFBABD-1781-4BF1-9AD4-D2C5BEE3B1A5}"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D467B036-71C9-4409-BC7E-E92F955B0568}" type="datetime1">
              <a:rPr lang="en-US"/>
              <a:t>07/31/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14E8A826-BCDD-4BA9-95FC-146D6F022BB2}" type="datetime1">
              <a:rPr lang="en-US"/>
              <a:t>07/31/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1831BDA9-7333-4A30-9AC6-4E3B9EBF1AD7}" type="datetime1">
              <a:rPr lang="en-US"/>
              <a:t>07/31/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4BEB3D6C-BE9A-41A6-98F3-C5F3659FA674}" type="datetime1">
              <a:rPr lang="en-US"/>
              <a:t>07/31/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72F083AA-FBC6-44AA-91FE-66D8CBA4D814}" type="datetime1">
              <a:rPr lang="en-US"/>
              <a:t>07/31/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1A030E83-FBEC-48DF-B047-4BE889B52F0A}" type="datetime1">
              <a:rPr lang="en-US"/>
              <a:t>07/31/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A475079A-E492-49A7-B1A3-36C84F175E5B}" type="datetime1">
              <a:rPr lang="en-US"/>
              <a:t>07/31/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